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8C48-A0A3-4B63-A464-E1C00DB9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907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34B6-0979-4E7A-B1CC-33BB07D0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70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90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270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5BAB-3F95-4F89-9CBB-E6C7AFF3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154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190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9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154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3190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1E4F-32ED-4266-9632-D235DE803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BC98-5A7E-4B96-9DD5-76286BC9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76B4-ECD7-42AA-9C0F-E1292BD2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C48B-B984-4FE4-940C-F779D410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270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F70A-6DCB-437C-B275-F8837589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BC81-20D8-475D-A7E2-CB0311B5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6743-FAC3-4D44-B69B-1A678AAB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270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90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089C-A2B5-4FE0-9C93-26134442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9AF7-81D2-4B67-B1BF-51299219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70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270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0E5A-8D3E-4EC7-9BCF-306E15D5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70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9907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5ECA-37D7-4014-9514-0D7F60ED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9907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E6B3-F76C-4313-A637-43AE3188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70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90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270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6BEF-C6DA-4F8B-B7D6-7A544373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154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3190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99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154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3190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B599-6FAC-41AE-BA70-D5826AC8E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2785-77B6-4FB9-9C4B-26E90FD5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70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F599-6E18-49AE-BEBD-2768B172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16F4-68FF-4294-91AA-CF8D5162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8AFF-D6C5-452D-B3EE-9AAA248A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70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90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2EB3-55C8-4251-AE5F-A5F1F3B3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70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270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3B38-DD72-463D-BDEC-DB32DAC6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70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7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DDB4-DA93-481F-8502-F126ECF5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3276720" y="6324480"/>
              <a:ext cx="3047760" cy="457200"/>
              <a:chOff x="3276720" y="6324480"/>
              <a:chExt cx="3047760" cy="457200"/>
            </a:xfrm>
          </p:grpSpPr>
          <p:sp>
            <p:nvSpPr>
              <p:cNvPr id="57" name=""/>
              <p:cNvSpPr/>
              <p:nvPr/>
            </p:nvSpPr>
            <p:spPr>
              <a:xfrm>
                <a:off x="3352680" y="6400800"/>
                <a:ext cx="2895840" cy="3049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276720" y="6400800"/>
                <a:ext cx="30477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276720" y="6705720"/>
                <a:ext cx="30477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526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248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7162920" y="6324480"/>
              <a:ext cx="1447560" cy="457200"/>
              <a:chOff x="7162920" y="6324480"/>
              <a:chExt cx="1447560" cy="457200"/>
            </a:xfrm>
          </p:grpSpPr>
          <p:sp>
            <p:nvSpPr>
              <p:cNvPr id="63" name=""/>
              <p:cNvSpPr/>
              <p:nvPr/>
            </p:nvSpPr>
            <p:spPr>
              <a:xfrm>
                <a:off x="7238880" y="6400800"/>
                <a:ext cx="1295640" cy="3049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629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1629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2388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534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990720" y="6324480"/>
              <a:ext cx="1447560" cy="457200"/>
              <a:chOff x="990720" y="6324480"/>
              <a:chExt cx="1447560" cy="457200"/>
            </a:xfrm>
          </p:grpSpPr>
          <p:sp>
            <p:nvSpPr>
              <p:cNvPr id="69" name=""/>
              <p:cNvSpPr/>
              <p:nvPr/>
            </p:nvSpPr>
            <p:spPr>
              <a:xfrm>
                <a:off x="1066680" y="6400800"/>
                <a:ext cx="1295640" cy="3049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9907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9907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0666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3623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76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d88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CA84FBFD-FFD0-4E9A-9CF9-E1B09A63813A}" type="slidenum">
              <a:rPr b="0" lang="en-US" sz="14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21" name=""/>
            <p:cNvGrpSpPr/>
            <p:nvPr/>
          </p:nvGrpSpPr>
          <p:grpSpPr>
            <a:xfrm>
              <a:off x="1104840" y="3141720"/>
              <a:ext cx="4971960" cy="514440"/>
              <a:chOff x="1104840" y="3141720"/>
              <a:chExt cx="4971960" cy="514440"/>
            </a:xfrm>
          </p:grpSpPr>
          <p:sp>
            <p:nvSpPr>
              <p:cNvPr id="122" name=""/>
              <p:cNvSpPr/>
              <p:nvPr/>
            </p:nvSpPr>
            <p:spPr>
              <a:xfrm>
                <a:off x="1104840" y="3141720"/>
                <a:ext cx="1752840" cy="45720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04840" y="3503880"/>
                <a:ext cx="228600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24120" y="3418200"/>
                <a:ext cx="3352680" cy="17136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719440" y="3237120"/>
                <a:ext cx="2971800" cy="22860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7162920" y="6324480"/>
              <a:ext cx="1447560" cy="457200"/>
              <a:chOff x="7162920" y="6324480"/>
              <a:chExt cx="1447560" cy="457200"/>
            </a:xfrm>
          </p:grpSpPr>
          <p:sp>
            <p:nvSpPr>
              <p:cNvPr id="182" name=""/>
              <p:cNvSpPr/>
              <p:nvPr/>
            </p:nvSpPr>
            <p:spPr>
              <a:xfrm>
                <a:off x="7238880" y="6400800"/>
                <a:ext cx="1295640" cy="304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1629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1629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2388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534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414360" y="2845080"/>
              <a:ext cx="6355800" cy="2690280"/>
              <a:chOff x="414360" y="2845080"/>
              <a:chExt cx="6355800" cy="2690280"/>
            </a:xfrm>
          </p:grpSpPr>
          <p:sp>
            <p:nvSpPr>
              <p:cNvPr id="189" name=""/>
              <p:cNvSpPr/>
              <p:nvPr/>
            </p:nvSpPr>
            <p:spPr>
              <a:xfrm flipH="1">
                <a:off x="414360" y="3232440"/>
                <a:ext cx="243360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08040" y="3117960"/>
                <a:ext cx="0" cy="2368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rot="16200000">
                <a:off x="479160" y="31147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45800" y="3000240"/>
                <a:ext cx="476280" cy="47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15" y="6518"/>
                    </a:moveTo>
                    <a:arcTo wR="10800" hR="10800" stAng="-1401335" swAng="98614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15" y="6518"/>
                    </a:moveTo>
                    <a:arcTo wR="10800" hR="10800" stAng="-1401335" swAng="986146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1324080" y="3081600"/>
                <a:ext cx="914040" cy="912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498" y="20209"/>
                    </a:moveTo>
                    <a:arcTo wR="10800" hR="10800" stAng="7164193" swAng="4498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498" y="20209"/>
                    </a:moveTo>
                    <a:arcTo wR="10800" hR="10800" stAng="7164193" swAng="4498063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327320" y="3092040"/>
                <a:ext cx="914040" cy="91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315" y="8333"/>
                    </a:moveTo>
                    <a:arcTo wR="10800" hR="10800" stAng="-792138" swAng="47472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315" y="8333"/>
                    </a:moveTo>
                    <a:arcTo wR="10800" hR="10800" stAng="-792138" swAng="474729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1143000" y="3137040"/>
                <a:ext cx="662040" cy="5191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24000" y="3137040"/>
                <a:ext cx="476280" cy="514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4135680" y="2902320"/>
                <a:ext cx="2634480" cy="263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610" y="18858"/>
                    </a:moveTo>
                    <a:arcTo wR="10800" hR="10800" stAng="7904515" swAng="11638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610" y="18858"/>
                    </a:moveTo>
                    <a:arcTo wR="10800" hR="10800" stAng="7904515" swAng="1163815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880520" y="2845080"/>
                <a:ext cx="680760" cy="68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71" y="12467"/>
                    </a:moveTo>
                    <a:arcTo wR="10800" hR="10800" stAng="532687" swAng="98360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71" y="12467"/>
                    </a:moveTo>
                    <a:arcTo wR="10800" hR="10800" stAng="532687" swAng="9836051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flipV="1">
                <a:off x="5461560" y="3368160"/>
                <a:ext cx="45756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9" y="11474"/>
                    </a:moveTo>
                    <a:arcTo wR="10800" hR="10800" stAng="214610" swAng="104078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9" y="11474"/>
                    </a:moveTo>
                    <a:arcTo wR="10800" hR="10800" stAng="214610" swAng="10407819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flipV="1">
                <a:off x="4357080" y="3381480"/>
                <a:ext cx="318600" cy="31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14" y="7598"/>
                    </a:moveTo>
                    <a:arcTo wR="10800" hR="10800" stAng="-1034896" swAng="127520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14" y="7598"/>
                    </a:moveTo>
                    <a:arcTo wR="10800" hR="10800" stAng="-1034896" swAng="1275208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419720" y="3246480"/>
                <a:ext cx="347400" cy="3430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210280" y="3232440"/>
                <a:ext cx="476280" cy="352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4723920" y="3232440"/>
                <a:ext cx="476280" cy="352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205240" y="3232440"/>
                <a:ext cx="0" cy="3571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681520" y="3232440"/>
                <a:ext cx="0" cy="4712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57200" y="3589560"/>
                <a:ext cx="561960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4"/>
          </p:nvPr>
        </p:nvSpPr>
        <p:spPr>
          <a:xfrm>
            <a:off x="7238880" y="6248520"/>
            <a:ext cx="133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054638E4-292B-4941-817F-17252EB6F07C}" type="slidenum">
              <a:rPr b="0" lang="en-US" sz="14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89f7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40458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2:33Z</dcterms:modified>
  <cp:revision>12</cp:revision>
  <dc:subject/>
  <dc:title>幻灯片 1</dc:title>
</cp:coreProperties>
</file>